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EBA4-6106-4D13-AB81-69C20248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2D29-0505-486C-9839-7E82BA06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3D7F-1FEB-4267-AF44-002DCB82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1C6D-E264-49CE-9E54-EBABC045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52BD-6ACF-415B-BDAF-B28B51A8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8EF3-6541-427A-9ED3-D52B3D83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AABA-AAF5-40D1-94E0-3E92CDE4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207A-1AE6-4F6D-ABAE-B2990858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5E13-B4D7-4337-820E-E56AD504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E6E0-2984-4A77-B00E-1144EED9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85F0-AA1F-4BFB-94BA-8F202B79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27A1-72E5-46BB-BF93-867373BF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7985-FE93-4AD9-83FC-0DC6497D1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Baptism: question to con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riends in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ll you promise to maintain a lif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f worship and teach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tness and serv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o that N</a:t>
            </a:r>
            <a:r>
              <a:rPr b="0" i="1" lang="en-A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may gr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maturity in Chri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God’s help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will live out our bapt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a loving community in Chris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urturing one another in fait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upholding one another in pray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encouraging one an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servi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until Christ c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3:25:44Z</dcterms:created>
  <dc:creator>Anon Anon</dc:creator>
  <dc:description/>
  <dc:language>en-US</dc:language>
  <cp:lastModifiedBy>Anon Anon</cp:lastModifiedBy>
  <dcterms:modified xsi:type="dcterms:W3CDTF">2005-08-09T05:36:22Z</dcterms:modified>
  <cp:revision>10</cp:revision>
  <dc:subject/>
  <dc:title>PowerPoint Presentation</dc:title>
</cp:coreProperties>
</file>